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8F6-FB87-40EF-8107-326252FC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BC0-1D7D-4489-B578-D45AC6E3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453-7F90-40B0-BD97-7202FC43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B5C-A39F-4F39-A1F3-822567EF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6A8-FD05-4786-AB0C-28407967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B5BC-6CFB-45B7-8EB6-E9A10726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ABB-77E9-498B-A777-7E0FC169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C4D4-0154-4478-A782-F8FB3F7A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FBE-49CA-4FC7-80AF-ED0ED7B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8BA5-A7FA-4A07-8D48-CA9C620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E017-EBDD-41AB-AD32-74C85C64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C01-F87B-49FA-A9D8-088A40F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C92-786E-4590-95C2-C2FA4A9B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1C0-2C1A-4BDF-94D7-2E0B51E8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F737-3B25-496D-8CA7-8D2B12B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035F-2EA2-44DB-9817-69B2F368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3736-594D-4F51-BFFA-BC6CDE1B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E84-184E-48FD-AF6D-898113B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083-AA22-4B3F-9C73-77EED63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165-DC5B-48D8-A7B6-2EE1A14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DE4-20C5-4AC8-B363-AC4F9FE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2BA-E700-47FD-9D4F-1F756AE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E9F-0B25-484B-BBF9-32A518E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BA9-0B00-40D2-B56C-1253912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BFA-E781-4A3A-86BA-C6A614E72B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5E5F-85B7-46C2-8318-84F46E41E3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" y="1295280"/>
            <a:ext cx="8229600" cy="27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А  ЧЕСТ</a:t>
            </a:r>
            <a:endParaRPr b="0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97400" y="0"/>
            <a:ext cx="6221880" cy="6674400"/>
          </a:xfrm>
          <a:prstGeom prst="rect">
            <a:avLst/>
          </a:prstGeom>
          <a:gradFill rotWithShape="0">
            <a:gsLst>
              <a:gs pos="0">
                <a:srgbClr val="3399ff">
                  <a:alpha val="40000"/>
                </a:srgbClr>
              </a:gs>
              <a:gs pos="100000">
                <a:srgbClr val="1746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3300"/>
                </a:solidFill>
                <a:latin typeface="Arial"/>
              </a:rPr>
              <a:t>СЛАВА ЧЕСТ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b2b2b2"/>
                </a:solidFill>
                <a:latin typeface="Arial"/>
              </a:rPr>
              <a:t>ВЛАСТ И ВЕЛИЧ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66"/>
                </a:solidFill>
                <a:latin typeface="Arial"/>
              </a:rPr>
              <a:t>ПОДОБА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00ff00"/>
                </a:solidFill>
                <a:latin typeface="Arial"/>
              </a:rPr>
              <a:t>НА ТВОРЕЦА</a:t>
            </a:r>
            <a:r>
              <a:rPr b="1" i="1" lang="en-US" sz="4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bg-BG" sz="4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800" spc="-1" strike="noStrike">
                <a:solidFill>
                  <a:srgbClr val="ff3300"/>
                </a:solidFill>
                <a:latin typeface="Arial"/>
              </a:rPr>
              <a:t>ЦАР НА ВСЕМИРА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60280" y="228600"/>
            <a:ext cx="5234400" cy="557928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ffff66">
                  <a:alpha val="40000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cc66"/>
                </a:solidFill>
                <a:latin typeface="Arial"/>
              </a:rPr>
              <a:t>БОЖЕ НАШ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bg-BG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3300"/>
                </a:solidFill>
                <a:latin typeface="Arial"/>
              </a:rPr>
              <a:t>ЦАРСКО ВЕЛИЧ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ff00"/>
                </a:solidFill>
                <a:latin typeface="Arial"/>
              </a:rPr>
              <a:t>ПРАВДА И МОЩ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99ff"/>
                </a:solidFill>
                <a:latin typeface="Arial"/>
              </a:rPr>
              <a:t>ВЛАСТ И ЛЮБО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666699"/>
                </a:solidFill>
                <a:latin typeface="Arial"/>
              </a:rPr>
              <a:t>ТВОЙ СА ПРЕСТ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703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457200"/>
            <a:ext cx="6096960" cy="558036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ff3300">
                  <a:alpha val="40000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СЛАВИМ Н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ТВОЕТО ИМЕ ВЕЛИЧА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НА ИСУ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ПОЧИТ  ОТДАЙ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ВСИЧКИ НАРОД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99ff"/>
                </a:solidFill>
                <a:latin typeface="Arial"/>
              </a:rPr>
              <a:t>САМО Т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99ff"/>
                </a:solidFill>
                <a:latin typeface="Arial"/>
              </a:rPr>
              <a:t>ЦАР НА ЦАРЕТЕ 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66"/>
                </a:solidFill>
                <a:latin typeface="Arial"/>
              </a:rPr>
              <a:t>/ ПЕЙТЕ МУ В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66"/>
                </a:solidFill>
                <a:latin typeface="Arial"/>
              </a:rPr>
              <a:t>ХВАЛА ВО 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66"/>
                </a:solidFill>
                <a:latin typeface="Arial"/>
              </a:rPr>
              <a:t>ТОЙ Е ВЕЛИК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1" i="1" lang="bg-BG" sz="3600" spc="-1" strike="noStrike">
                <a:solidFill>
                  <a:srgbClr val="ffcc66"/>
                </a:solidFill>
                <a:latin typeface="Arial"/>
              </a:rPr>
              <a:t> /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8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0" y="304920"/>
            <a:ext cx="5068080" cy="618876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ff00"/>
                </a:solidFill>
                <a:latin typeface="Arial"/>
              </a:rPr>
              <a:t>СЛАВА ЧЕС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3300"/>
                </a:solidFill>
                <a:latin typeface="Arial"/>
              </a:rPr>
              <a:t>ВЛАСТ И ВЕЛИЧ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Arial"/>
              </a:rPr>
              <a:t>ПОДОБ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66"/>
                </a:solidFill>
                <a:latin typeface="Arial"/>
              </a:rPr>
              <a:t>НА ТВОРЕЦА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ЦАР НА ВСЕМИ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7480" y="304920"/>
            <a:ext cx="5234400" cy="6188760"/>
          </a:xfrm>
          <a:prstGeom prst="rect">
            <a:avLst/>
          </a:prstGeom>
          <a:gradFill rotWithShape="0">
            <a:gsLst>
              <a:gs pos="0">
                <a:srgbClr val="3399ff">
                  <a:alpha val="20000"/>
                </a:srgbClr>
              </a:gs>
              <a:gs pos="50000">
                <a:srgbClr val="174675">
                  <a:alpha val="20000"/>
                </a:srgbClr>
              </a:gs>
              <a:gs pos="100000">
                <a:srgbClr val="3399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66"/>
                </a:solidFill>
                <a:latin typeface="Arial"/>
              </a:rPr>
              <a:t>БОЖЕ НАШ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66"/>
                </a:solidFill>
                <a:latin typeface="Arial"/>
              </a:rPr>
              <a:t>ЦАРСКО ВЕЛИЧ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3300"/>
                </a:solidFill>
                <a:latin typeface="Arial"/>
              </a:rPr>
              <a:t>ПРАВДА И МОЩ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99ff"/>
                </a:solidFill>
                <a:latin typeface="Arial"/>
              </a:rPr>
              <a:t>ВЛАСТ И ЛЮБО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ff00"/>
                </a:solidFill>
                <a:latin typeface="Arial"/>
              </a:rPr>
              <a:t>ТВОЙ СА ПРЕСТ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9040" y="304920"/>
            <a:ext cx="6096960" cy="6129000"/>
          </a:xfrm>
          <a:prstGeom prst="rect">
            <a:avLst/>
          </a:prstGeom>
          <a:gradFill rotWithShape="0">
            <a:gsLst>
              <a:gs pos="0">
                <a:srgbClr val="3399ff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ff00"/>
                </a:solidFill>
                <a:latin typeface="Arial"/>
              </a:rPr>
              <a:t>СЛАВИМ НИЙ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bg-BG" sz="3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ff00"/>
                </a:solidFill>
                <a:latin typeface="Arial"/>
              </a:rPr>
              <a:t>ТВОЕТО ИМЕ ВЕЛИЧА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99ff"/>
                </a:solidFill>
                <a:latin typeface="Arial"/>
              </a:rPr>
              <a:t>НА ИСУ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99ff"/>
                </a:solidFill>
                <a:latin typeface="Arial"/>
              </a:rPr>
              <a:t>ПОЧИТ  ОТДАЙ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99ff"/>
                </a:solidFill>
                <a:latin typeface="Arial"/>
              </a:rPr>
              <a:t>ВСИЧКИ НАРОД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САМО Т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3300"/>
                </a:solidFill>
                <a:latin typeface="Arial"/>
              </a:rPr>
              <a:t>ЦАР НА ЦАРЕТЕ 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/ ПЕЙТЕ МУ В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ХВАЛА ВО 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ТОЙ Е ВЕЛИК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 /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8000"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03:05Z</dcterms:created>
  <dc:creator>TrifonTrifonow</dc:creator>
  <dc:description/>
  <dc:language>en-US</dc:language>
  <cp:lastModifiedBy>TrifonTrifonow</cp:lastModifiedBy>
  <dcterms:modified xsi:type="dcterms:W3CDTF">2006-02-11T10:29:40Z</dcterms:modified>
  <cp:revision>2</cp:revision>
  <dc:subject/>
  <dc:title>Slide 1</dc:title>
</cp:coreProperties>
</file>